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ABBC-4351-449B-8B73-E11E39E5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1689-115E-4493-BA32-792AE594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5237-2469-4A17-9DBB-05D6D8C63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953B-C357-456A-876B-96735754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A776-B0C3-49DF-B961-5F2B32FE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04AF-16D7-4DC2-B54A-AE0B3FC1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0BD1-69CB-4628-A051-9F6FE081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8CF5-9BFB-4B7F-8AE8-4F6324C6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87B4-89B1-41AF-A1BB-6CB8E9C3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2E1B-ED9A-40C3-898D-8F382B02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87F2-F853-4B0F-A6A2-6B3EA74C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7CD4-0EB1-47CE-838A-36A09524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B8DB-0D08-4F71-81D3-4E1AD9A82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here to from 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e have learnt so fa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WCPFC measures (CMM 2006-01 &amp; 2005-01) established effort caps – but insufficient to address overf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 management measures are being implemented by PNA members with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ment that require ‘complimentary’ measures in the high seas (achieve equivalent effect but not necessarily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should be established across PS and LL to be effective &amp; not pose disproportional burden on fish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m to minimise impacts on skipjack and albacore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act at the next meeting ……no compromise on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 and compatible with EEZ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vess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catch limit (responsive to population size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n all PS effort or FAD/log se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100% Observ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tag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gested PS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p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S discussion on co-operative management an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closure say 3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 depth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time of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mesh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on phase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LL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 and compatible with EEZ meas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vessel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-like sche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catch lim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5% reduction  in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losed areas/seasons (in addition to above measu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bserver 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 of high seas pocke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s of high seas until measures develop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address vulnerability in Eastern se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effort from non-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U eff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 Pressure/ Certif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certification pressures/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CS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ral additional issu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of th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g-eye and yellowfin measure which include compatible measure  eg VDS on High s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irational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nt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2:15:46Z</dcterms:created>
  <dc:creator>Higgins Amy</dc:creator>
  <dc:description/>
  <dc:language>en-US</dc:language>
  <cp:lastModifiedBy>SANTANA LARA</cp:lastModifiedBy>
  <dcterms:modified xsi:type="dcterms:W3CDTF">2008-04-14T06:35:43Z</dcterms:modified>
  <cp:revision>19</cp:revision>
  <dc:subject/>
  <dc:title>Where to from here?</dc:title>
</cp:coreProperties>
</file>